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E31-9AE7-46D0-AC25-79C6D3D8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094-2CD8-4C99-9D3E-17B9EE94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656-0324-46F9-AF1B-6D5D0E87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E59-0A84-4187-9977-84F79264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D49-9FA2-4EFA-A57D-DC3549D1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7B9-B85D-45C7-BCF2-4F37482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2AF-73B3-4E06-89B6-B99510DF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4437-B48E-422D-AE8C-FE837636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EEF4-DD75-4887-853A-497CD915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7316-B638-44C3-9857-ED7282B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705-1817-4CDD-99F3-2D5DCEE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184-DCFE-412E-928A-3FF1B90A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3DB3-51C8-4836-954A-C2D4980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AFD-2839-4236-B9FA-0128A674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3DE-BEA9-4082-B6FF-072740B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66F7-4110-4781-B65B-8E85593F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F8A-2C84-4475-B95D-2214CC75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659-ECA0-443E-B499-61A8D566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00C-B106-42C0-BDA0-29DBA74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FD4-6604-429E-B348-9941F293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BCC-5DCD-4536-ADC7-C19A499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1B5-8401-43D0-B70B-BBEB7D8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C81-61E4-48D5-B225-7FC38D5A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B26-7A2D-46A9-AF0B-E636779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F90-56AF-49AD-A689-9C88BFF3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B384-4A26-4231-A53E-15EF96014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Christian Sexuality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chool of Theology &amp; Minist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attle Univers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n Ferder &amp; John Heag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oward an Integrating Vis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1676520"/>
            <a:ext cx="4952880" cy="4800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209680"/>
            <a:ext cx="3657600" cy="37339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971800"/>
            <a:ext cx="2286000" cy="2286000"/>
          </a:xfrm>
          <a:prstGeom prst="ellipse">
            <a:avLst/>
          </a:prstGeom>
          <a:solidFill>
            <a:srgbClr val="f0936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9920" y="1676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-Claiming Our Roo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 to the Primal Vision of the Judeo-Christian Trad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arnational Spiritu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reation%20with%20people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newing and Expanding Our Vision of Sexua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laiming the goodness of E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ewing our commitment to Responsible L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Dance%20of%20genders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2840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Is Human Sexualit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nergy for Relationshi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couple%20on%20beach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510552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xuality: Communion-Making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re for Conn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red Lon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on for Life—Creativ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mic Allurement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two%20people%20sunset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051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Human Sexuality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fects all aspects of the human persons in the unity of body and soul.  It especially concerns affectivity, the capacity to love and give life, and in a more general way the aptitude for forming bonds of communion with other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lic Catechism #23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Human Sexuality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600200"/>
            <a:ext cx="5257800" cy="5257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133720"/>
            <a:ext cx="4114800" cy="39621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2438640" cy="243864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148896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1752480"/>
            <a:ext cx="13114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6240" y="2362320"/>
            <a:ext cx="10782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u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7000" y="3927600"/>
            <a:ext cx="1793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he Revolution Is Ove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ME – April 9, 198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Inward%20Faces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2432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at Is the Deeper Sexual Revolutio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our cultur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our church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our personal liv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Diverse%20community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30430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Sex In America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efinitive Surv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Comprehensive, Revealing Report on  Sexual Behavior Tod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ts Surprising I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A7621304" descr=""/>
          <p:cNvPicPr/>
          <p:nvPr/>
        </p:nvPicPr>
        <p:blipFill>
          <a:blip r:embed="rId1"/>
          <a:stretch/>
        </p:blipFill>
        <p:spPr>
          <a:xfrm>
            <a:off x="685800" y="2238480"/>
            <a:ext cx="380988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opular Images of Sexua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ity =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ited by media as recreation/rom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ed to vio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true%20love" descr=""/>
          <p:cNvPicPr/>
          <p:nvPr/>
        </p:nvPicPr>
        <p:blipFill>
          <a:blip r:embed="rId1"/>
          <a:stretch/>
        </p:blipFill>
        <p:spPr>
          <a:xfrm>
            <a:off x="86040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here are our Church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ffirming, Rooted Tra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gering Ambivalence &amp; “Dualis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38102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Hierarchy of Loving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a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generou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-center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-li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hil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mutual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friendshi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passion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, sexual desi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Hearts%20struggling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381024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Fear of Eros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re Crisis in Church and Cul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red%20heart%20abstract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34340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8:01:14Z</dcterms:created>
  <dc:creator>John Lewis Heagle</dc:creator>
  <dc:description/>
  <dc:language>en-US</dc:language>
  <cp:lastModifiedBy> </cp:lastModifiedBy>
  <dcterms:modified xsi:type="dcterms:W3CDTF">2005-06-16T17:28:40Z</dcterms:modified>
  <cp:revision>18</cp:revision>
  <dc:subject/>
  <dc:title>Christian Sexuality</dc:title>
</cp:coreProperties>
</file>