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A0B-6E68-4CBA-9276-8DCC8E5E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FCF-34D0-413E-AFC5-34D1B38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CF7-A31C-4F71-93AD-6C663F37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2CF-3E9A-4D25-8940-C7890F44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C9B6-9D48-4221-8575-C13231A3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CDD7-AE7F-448D-808A-52F22AD1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571A-9C79-4B68-9529-B60F3106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983-8343-487D-9F62-37EA7646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FF6-CAA5-409C-B5B7-D96AE6F4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440D-55B6-4C1C-A4DB-C1EADBEC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DC3-68B9-4395-B55F-07C267BA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135-B48B-48EF-8A9B-6EC72FB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3DD-4E5B-47CD-8DD9-4216635E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3B83-270E-4A9B-A447-30CFA60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2556-BEA7-45C9-84E8-CEC2AA9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6F1E-BA75-4046-AE1E-3D892C22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9F1-9886-45B8-8EC4-F5406273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D36-3F11-4FAB-9601-EA81F3E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84A-E299-4B91-9ED1-62C2D4A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FF3-D42A-4413-9A3B-883656A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AAB-6999-41BA-AD12-21FE07AE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949-E2A5-4756-AC5E-D280623F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301-69BD-49FF-A0D9-C85CBF7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C06-00C0-4349-A754-01726E07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EBD0-FF12-41AC-9454-7DE96928C90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338-42AB-493F-80D6-C77B8DF60A0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The Intrinsic Ethic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The Grounding Dynamics of Relational Valu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Grounding Principle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ior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adical Dig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onal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ommun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iv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fe-Giv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ibil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tewardshi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far%20away%20earth" descr=""/>
          <p:cNvPicPr/>
          <p:nvPr/>
        </p:nvPicPr>
        <p:blipFill>
          <a:blip r:embed="rId1"/>
          <a:stretch/>
        </p:blipFill>
        <p:spPr>
          <a:xfrm>
            <a:off x="6553080" y="3048120"/>
            <a:ext cx="213372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How far can we go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minimalist ethical ques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How far can we go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our expression of affection truly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utu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i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hone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 Does it tell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ruth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bout the depth and quality of our relationshi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we tak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responsibili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or the way in which our love is express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How far can we go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 integral ethical approa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How far can we go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our trust with each oth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our ability to communicat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our vulnerability to each oth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opening our relationship to generative servic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deepening our covenantal fidelit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eaning of Sexual Intercour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utual Self-Giv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acramental Embodiment of God’s Creative &amp; Faithful Lov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‘Symbolic Language’ of Truth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eyond Individualism to the Communal &amp; Social Dimension of Lovin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ual Ethics in Proces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Changing Landscape of Human Intimac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Ancient &amp; Medieval World Vie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throprocentr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ther World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Emerging World View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n &amp; Exp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arnational—Sacred as Immanen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ranscend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mogene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Emerging Sexual Ethic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 Sexuality as gift and bless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bodying the life-giving and loving energy of God in the univer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man relationships as en-fleshing respect, reverence, and responsibi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xual encounters express values that ar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life-enhanc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mutu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venant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aithfu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an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joyfu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in Today’s Culture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ploit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ecre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iti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it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mmun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A7621304" descr=""/>
          <p:cNvPicPr/>
          <p:nvPr/>
        </p:nvPicPr>
        <p:blipFill>
          <a:blip r:embed="rId1"/>
          <a:stretch/>
        </p:blipFill>
        <p:spPr>
          <a:xfrm>
            <a:off x="5043600" y="2120760"/>
            <a:ext cx="3979800" cy="375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Exploit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arcissistic focu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lf gratification without concern for the other or the consequenc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lue: I try to talk someone into having sex when she/he is hesitant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A7621304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201276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Recre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otivation is enjoym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nly moral issue is cons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lue: Sex is often the only time I “feel close” to another pers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A7621304" descr=""/>
          <p:cNvPicPr/>
          <p:nvPr/>
        </p:nvPicPr>
        <p:blipFill>
          <a:blip r:embed="rId1"/>
          <a:stretch/>
        </p:blipFill>
        <p:spPr>
          <a:xfrm>
            <a:off x="6477120" y="2057400"/>
            <a:ext cx="2089080" cy="1973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Initi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x as “getting to know” someo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We have sex before experience other forms of intimac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lue: Sex is an early, expected encounter when I really like someo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A762130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152388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Communic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x is an important way of expressing love and c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people who seem to be in love and expect the relationship to la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e: 3 or more relationships that haven’t lasted, though I thought they were serio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A7621304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Commitment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ce we know we are in love, and have made a genuine commitment, making love is an important form of shar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e: We’ve been together long enough to know each other well, and are sure that we want to be together for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A7621304" descr=""/>
          <p:cNvPicPr/>
          <p:nvPr/>
        </p:nvPicPr>
        <p:blipFill>
          <a:blip r:embed="rId1"/>
          <a:stretch/>
        </p:blipFill>
        <p:spPr>
          <a:xfrm>
            <a:off x="7086600" y="289548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Sex as Commun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x as ‘holy ritual’ that expresses the profound soul connection we have in the context of our lifetime commit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ue: We are lovers, best friends, and soul-mates who continue to explore and share deepening forms of intimac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A7621304" descr=""/>
          <p:cNvPicPr/>
          <p:nvPr/>
        </p:nvPicPr>
        <p:blipFill>
          <a:blip r:embed="rId1"/>
          <a:stretch/>
        </p:blipFill>
        <p:spPr>
          <a:xfrm>
            <a:off x="7329600" y="228600"/>
            <a:ext cx="181440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Biblical Roots—</a:t>
            </a:r>
            <a:r>
              <a:rPr b="1" i="1" lang="en-US" sz="4800" spc="-1" strike="noStrike">
                <a:solidFill>
                  <a:srgbClr val="ffcc00"/>
                </a:solidFill>
                <a:latin typeface="Times New Roman"/>
              </a:rPr>
              <a:t>Imago Dei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n the image of God they were created; male and female God created them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Faces%20of%20diversity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1T21:54:25Z</dcterms:created>
  <dc:creator>John Lewis Heagle</dc:creator>
  <dc:description/>
  <dc:language>en-US</dc:language>
  <cp:lastModifiedBy> </cp:lastModifiedBy>
  <dcterms:modified xsi:type="dcterms:W3CDTF">2005-06-16T18:52:17Z</dcterms:modified>
  <cp:revision>10</cp:revision>
  <dc:subject/>
  <dc:title>Intrinsic Ethic</dc:title>
</cp:coreProperties>
</file>