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D04-A86B-4712-8384-0DE35368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5945-F811-4856-BAA2-C9CC3834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F06-178C-4290-A04B-DD45794D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830-073C-45E0-9D71-3F77C3BB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77CB-D8B5-476B-B863-3CCE7D4B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932A-84CB-4803-9505-D4E5C259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6656-BFAC-45DC-84CC-C251C81D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A67F-735B-4F07-BAB8-D10B3F89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B43F-D7A5-47D3-A457-C8C60071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F387-EA0F-4C31-9746-3358CE59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8A7D-167D-4DA9-B4F4-644045FC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BA9-30E0-4BA2-A882-FDE5EDFE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D682-3360-41E9-924F-25289DE0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88B6-3386-41C7-8A10-51715826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6825-2181-4E6C-BEA0-8D17C666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EE74-F6CA-4BE7-A9AC-8152D10E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B0F2-65D7-457D-89CB-6CDD99C8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923-AD92-4C37-A9BD-6A94B8FA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DF3-B4F9-49FE-8E47-BBB36899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2A2C-6C61-40F7-9EB1-2D8907F1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E96-1F5E-4724-BB68-B8487C88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F13-E6F4-4E4C-8CE3-C310BBE5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3C91-EB94-4A75-BDBC-EB6FA57D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0D2-DF7F-4075-88B2-46C9DF32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EE25-2672-4126-AF9C-15A3A601F5BF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A938-0945-4DE1-BE75-4612A12F1C86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Sexual Orienta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sychological and Pastoral Perspectiv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4" name="Heart%20crisis" descr=""/>
          <p:cNvPicPr/>
          <p:nvPr/>
        </p:nvPicPr>
        <p:blipFill>
          <a:blip r:embed="rId2"/>
          <a:stretch/>
        </p:blipFill>
        <p:spPr>
          <a:xfrm>
            <a:off x="2895480" y="3365640"/>
            <a:ext cx="3476880" cy="2966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Evolving Perspectiv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Choice or life-style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Emerging discovery/bio-environmental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Influence of feminist consciousness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9" name="Woman's%20eyes" descr=""/>
          <p:cNvPicPr/>
          <p:nvPr/>
        </p:nvPicPr>
        <p:blipFill>
          <a:blip r:embed="rId2"/>
          <a:stretch/>
        </p:blipFill>
        <p:spPr>
          <a:xfrm>
            <a:off x="4343400" y="2514600"/>
            <a:ext cx="254016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Pastoral/Theological Dilemma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e value and sacredness of the heterosexual family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e radical dignity of the human person and the right to give and receive love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2666880"/>
            <a:ext cx="609840" cy="1828800"/>
          </a:xfrm>
          <a:prstGeom prst="upDownArrow">
            <a:avLst>
              <a:gd name="adj1" fmla="val 50000"/>
              <a:gd name="adj2" fmla="val 59698"/>
            </a:avLst>
          </a:prstGeom>
          <a:solidFill>
            <a:srgbClr val="37b959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The Pastoral Dilemma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Upholding ‘family values’ and traditional morality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Embracing gospel justice, compassion, and  inclusive communities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2590920"/>
            <a:ext cx="762120" cy="1752480"/>
          </a:xfrm>
          <a:prstGeom prst="upDownArrow">
            <a:avLst>
              <a:gd name="adj1" fmla="val 50000"/>
              <a:gd name="adj2" fmla="val 45777"/>
            </a:avLst>
          </a:prstGeom>
          <a:solidFill>
            <a:srgbClr val="3939b7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The Pastoral Need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pirit of prayerful listening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Atmosphere of respectful dialogue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Openness to scientific research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18" name="Holding%20the%20world" descr=""/>
          <p:cNvPicPr/>
          <p:nvPr/>
        </p:nvPicPr>
        <p:blipFill>
          <a:blip r:embed="rId2"/>
          <a:stretch/>
        </p:blipFill>
        <p:spPr>
          <a:xfrm>
            <a:off x="4648320" y="2130480"/>
            <a:ext cx="3124080" cy="3127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The Pastoral Need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Welcoming all the stories of loving.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Pastoral compassion and inclusion.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21" name="Holding%20the%20world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2511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Scripture Debat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es the Bible Say About Homosexuality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Some Scriptural Basic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Homosexuality’ as we understand it today, not a term used in bible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Jews &amp; early Christians not familiar with erotic attraction to persons of same gender as a </a:t>
            </a:r>
            <a:r>
              <a:rPr b="0" lang="en-US" sz="3200" spc="-1" strike="noStrike" u="sng">
                <a:solidFill>
                  <a:srgbClr val="463634"/>
                </a:solidFill>
                <a:uFillTx/>
                <a:latin typeface="Times New Roman"/>
              </a:rPr>
              <a:t>natural response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In bible, same gender loving connected to violence, abuse, and idolatry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Biblical References—Hebrew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Genesis 19:5-9 (Sodom &amp; Gomorrah)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Leviticus 18:22 &amp; 20:13 (Part of the Holiness Code)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Biblical References—Christian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Romans 1:26-27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I Corinthians 6:9-10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I Timothy 1:9-10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The Unfinished Debat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Diverse &amp; Evolving Scriptural Scholarship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Psychology &amp; Sexual Orientation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Emerging Understanding &amp; Continuing Research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Landmarks in Psycholog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1957—Evelyn Hooker’s Research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Erased psychological dichotomy between heterosexual &amp; homosexual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34" name="medicine%20&amp;%20spirituality" descr=""/>
          <p:cNvPicPr/>
          <p:nvPr/>
        </p:nvPicPr>
        <p:blipFill>
          <a:blip r:embed="rId2"/>
          <a:stretch/>
        </p:blipFill>
        <p:spPr>
          <a:xfrm>
            <a:off x="4419720" y="2286000"/>
            <a:ext cx="292896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Landmarks in Psycholog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1973—APA Decision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Homosexuality not a mental disorder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37" name="medicine%20&amp;%20spirituality" descr=""/>
          <p:cNvPicPr/>
          <p:nvPr/>
        </p:nvPicPr>
        <p:blipFill>
          <a:blip r:embed="rId2"/>
          <a:stretch/>
        </p:blipFill>
        <p:spPr>
          <a:xfrm>
            <a:off x="4191120" y="2209680"/>
            <a:ext cx="2928960" cy="3124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Landmarks in Psycholog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1991 Brain/hormonal research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Removing another stigma?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40" name="medicine%20&amp;%20spirituality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285768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Nature or Nurture?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Homosexuality as Innate—Natur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Homosexuality as Voluntary--Nurtur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9" name="questioning%20brain" descr=""/>
          <p:cNvPicPr/>
          <p:nvPr/>
        </p:nvPicPr>
        <p:blipFill>
          <a:blip r:embed="rId2"/>
          <a:stretch/>
        </p:blipFill>
        <p:spPr>
          <a:xfrm>
            <a:off x="4267080" y="2209680"/>
            <a:ext cx="1158840" cy="1676520"/>
          </a:xfrm>
          <a:prstGeom prst="rect">
            <a:avLst/>
          </a:prstGeom>
          <a:ln w="0">
            <a:noFill/>
          </a:ln>
        </p:spPr>
      </p:pic>
      <p:pic>
        <p:nvPicPr>
          <p:cNvPr id="90" name="Sad%20eyes" descr=""/>
          <p:cNvPicPr/>
          <p:nvPr/>
        </p:nvPicPr>
        <p:blipFill>
          <a:blip r:embed="rId3"/>
          <a:stretch/>
        </p:blipFill>
        <p:spPr>
          <a:xfrm>
            <a:off x="4038480" y="4572000"/>
            <a:ext cx="1828800" cy="131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What do we all have in common?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An Orientation—Direction of Erotic Interes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Opposite Gender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ame Gender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Bi-Sexualit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trength or Intensity of Sexual Respons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3" name="Faces%20of%20diversity" descr=""/>
          <p:cNvPicPr/>
          <p:nvPr/>
        </p:nvPicPr>
        <p:blipFill>
          <a:blip r:embed="rId2"/>
          <a:stretch/>
        </p:blipFill>
        <p:spPr>
          <a:xfrm>
            <a:off x="4038480" y="2666880"/>
            <a:ext cx="3238560" cy="1971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Kinsey Scale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0.….1.…...2.…...3…....4…....5.….6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heterosexual...bisexual...homosexua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Brain Physiolog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8" name="Brain%20&amp;%20Orientation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5257800" cy="4602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Brain Physiolog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Interstitial Nuclei of the Anterior Hypothalamu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xually </a:t>
            </a:r>
            <a:r>
              <a:rPr b="0" lang="en-US" sz="3200" spc="-1" strike="noStrike" u="sng">
                <a:solidFill>
                  <a:srgbClr val="463634"/>
                </a:solidFill>
                <a:uFillTx/>
                <a:latin typeface="Times New Roman"/>
              </a:rPr>
              <a:t>Dymorphic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Tissu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Pastoral Challeng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A Painful &amp; Divisive Issue in Faith Communities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3" name="Cross%20&amp;%20community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232092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Evolving Perspectiv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Homosexuality as perversion/evil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Sin or moral failure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Disease or mental illness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6" name="Woman's%20eyes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247032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7:08:02Z</dcterms:created>
  <dc:creator>John Lewis Heagle</dc:creator>
  <dc:description/>
  <dc:language>en-US</dc:language>
  <cp:lastModifiedBy> </cp:lastModifiedBy>
  <dcterms:modified xsi:type="dcterms:W3CDTF">2005-06-16T19:08:25Z</dcterms:modified>
  <cp:revision>11</cp:revision>
  <dc:subject/>
  <dc:title>Sexual Orientation</dc:title>
</cp:coreProperties>
</file>