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BBE-4BF5-4BD7-B2CF-EAEEED6E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539-71EA-4214-BFE2-0C1216F8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090-9B65-4C77-98D8-8FF678C7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AB8-43A9-4286-A730-61FD717D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E817-4E11-4A6A-B1B7-2CD0CAC6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970E-07A1-439A-BD69-9B2C49A3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F38-A1B2-40FC-8A04-A6FAE05A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2090-38ED-468E-AE79-8F01FC8F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FD7C-E072-47F6-BDE9-B30FD4EB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4530-B171-42BE-BBF9-5C21AD3C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DE64-F2BC-4DAE-95F0-040C9D8B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92E-2D09-493A-BC23-0F531CA1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9C25-73B2-45F2-8688-BCD9306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8A57-8B59-4477-8DDC-B091B54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814E-3258-45E4-9C72-2E2324ED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41D6-ADB3-41C0-8955-0EAEA08D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2BE5-DE77-4634-A559-04E85833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9F2-912B-4E0E-AE2E-B48DE580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217-44D7-46BD-8E1F-59143C91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EB5-8099-4430-9CB4-E577916E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F72-7521-444C-83FB-1D6A0405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12B-7DBC-4B51-9A9F-93F3174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BC2-2389-4A04-A351-F52D3B4C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E63-3158-4607-9C22-F80B7166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107B-F0E8-4CBD-8796-FB698970C72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4F09-9D12-42CF-AB3A-17FA6A4B406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666520"/>
            <a:ext cx="693396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-Claiming Sacred ER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entral Task of Contemporary Pastoral Theolog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06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xuality &amp; Religion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n evolving relationship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1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dentif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olithic, era of godd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paration-Alie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erging dualism and fear of er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g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task before us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aul Ricoeu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heart%20of%20flower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279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697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ltural Notions of Er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1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rotic” reduced to physical urges and expressio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rnographic or “naughty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x as recre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page%20of%20kisses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108600" cy="4496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ligious Approaches to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r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1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oncupiscenc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—(Augustine) all sexual desire is disorder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moral thoughts or desi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al, instinctive level of sex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black%20heart" descr=""/>
          <p:cNvPicPr/>
          <p:nvPr/>
        </p:nvPicPr>
        <p:blipFill>
          <a:blip r:embed="rId1"/>
          <a:stretch/>
        </p:blipFill>
        <p:spPr>
          <a:xfrm>
            <a:off x="5578560" y="1600200"/>
            <a:ext cx="30114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ROS—Toward a deeper perspec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1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cred Long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ire for Beau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vine Restless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rt’s Ache for Whole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ive Ener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Elan Vit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—Passion  for Life and Justi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colors%20of%20hope" descr=""/>
          <p:cNvPicPr/>
          <p:nvPr/>
        </p:nvPicPr>
        <p:blipFill>
          <a:blip r:embed="rId1"/>
          <a:stretch/>
        </p:blipFill>
        <p:spPr>
          <a:xfrm>
            <a:off x="4579920" y="1763640"/>
            <a:ext cx="4338720" cy="324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8697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erging Creation 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0040" y="1600200"/>
            <a:ext cx="381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galactic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osmogen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earth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geogen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ife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biogen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human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noogene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blue%20tunnel" descr=""/>
          <p:cNvPicPr/>
          <p:nvPr/>
        </p:nvPicPr>
        <p:blipFill>
          <a:blip r:embed="rId1"/>
          <a:stretch/>
        </p:blipFill>
        <p:spPr>
          <a:xfrm>
            <a:off x="380880" y="2322360"/>
            <a:ext cx="4510080" cy="3002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ros &amp; Emerging Creation 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1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fferentiation (tangential energ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io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radial energ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un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cosmic alluremen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N3723527" descr=""/>
          <p:cNvPicPr/>
          <p:nvPr/>
        </p:nvPicPr>
        <p:blipFill>
          <a:blip r:embed="rId1"/>
          <a:stretch/>
        </p:blipFill>
        <p:spPr>
          <a:xfrm>
            <a:off x="4871880" y="1681200"/>
            <a:ext cx="397368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8697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smic Allur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1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d’s creative intention for communion in cosm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“Drawing Power” of Love (John 12:3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N70B0701" descr=""/>
          <p:cNvPicPr/>
          <p:nvPr/>
        </p:nvPicPr>
        <p:blipFill>
          <a:blip r:embed="rId1"/>
          <a:stretch/>
        </p:blipFill>
        <p:spPr>
          <a:xfrm>
            <a:off x="4871880" y="1763640"/>
            <a:ext cx="3810240" cy="420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xuality and Cosmic Allur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man sexuality is the divine energy of creativity and lov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it is manifested in wondrously diverse forms in the cosmos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as it becomes conscious and intentional in human relationships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the purpose of giving life and deepening commun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ender Fir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86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N70B0701" descr=""/>
          <p:cNvPicPr/>
          <p:nvPr/>
        </p:nvPicPr>
        <p:blipFill>
          <a:blip r:embed="rId1"/>
          <a:stretch/>
        </p:blipFill>
        <p:spPr>
          <a:xfrm>
            <a:off x="7010280" y="0"/>
            <a:ext cx="1690920" cy="166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xuality &amp; Mysticism: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Common Langu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1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arning, long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eking, discover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stasy and un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andon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um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rren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life%20vibrations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294948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0:02:17Z</dcterms:created>
  <dc:creator>John Lewis Heagle</dc:creator>
  <dc:description/>
  <dc:language>en-US</dc:language>
  <cp:lastModifiedBy> </cp:lastModifiedBy>
  <dcterms:modified xsi:type="dcterms:W3CDTF">2005-06-16T18:03:12Z</dcterms:modified>
  <cp:revision>12</cp:revision>
  <dc:subject/>
  <dc:title>Re-Claiming Sacred EROS</dc:title>
</cp:coreProperties>
</file>