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FD8-B816-440E-95AA-0BBFA506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B7A-A02B-4AB2-95E5-446CC99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8F1-DFD0-4A5B-90BA-3F1C67BD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0C6-5E75-4140-801E-704CDB21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E572-FE82-417D-9C06-F6CE74E0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790-ADD6-4CFB-A436-3AD930E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E640-FF24-4A5B-922E-8F994AF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C39-B471-4AFF-89CB-B818524D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893-7963-40F5-A9E5-6AEA6D29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7F0-01FD-4CBB-8CB7-21200C6B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E28-DF8A-4F27-AA90-E63CAB1D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319-B5BA-4095-8A1D-E88B9395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4DB0-FDEC-4D54-B6D2-A0ADCF1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689A-41FE-4EB2-8839-FB0A261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4121-249C-4192-838C-7887E67E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8975-C390-412C-A6FA-2893E792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8FDD-2DD5-4CFE-9E5D-B32D4DD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AC3-A4A9-4599-8750-5A393DEC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48B-C1DA-4B11-B005-CAC0FAB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96C-7A02-4C5B-96A4-DC8F8F0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7D5-7C44-4F63-86C8-FBCA7405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CD9-6FF9-4071-92E9-6A01C18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33D-FA9A-4BE8-8417-A5E5908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070-1F7C-4920-93E5-1E2E08E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27D-8BA4-4E13-8B26-88AEB3DC2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4A6-63A5-49BE-99C1-FBB4BB92B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Sexual Abuse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ward Psychological and Pastoral Understan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cross%20symbol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28600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Healing the Pain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toral &amp;  Personal Responses to Sexual Ab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Healing%20a%20Child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617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3 Stages of Healing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ng the Vict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ing the Surviv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irming the Thri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green%20ball%20of%20light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1—Protecting the Victi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ing the secret, telling the st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ing ‘triggers’ &amp; developing messages of cour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steps in grieving and re-imaging se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flowering%20branch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88620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2—Supporting the Survivo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ing healthy an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ing &amp; restructuring core-life mess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family &amp; relational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bridge%20across%20stream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3—Affirming the Thriv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survival patterns to adult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ng trauma with other life experi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ituality of healing: forgiveness &amp; self-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coastal%20jogger" descr=""/>
          <p:cNvPicPr/>
          <p:nvPr/>
        </p:nvPicPr>
        <p:blipFill>
          <a:blip r:embed="rId1"/>
          <a:stretch/>
        </p:blipFill>
        <p:spPr>
          <a:xfrm>
            <a:off x="5132520" y="273204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What About Forgivenes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giveness vs. Reconcil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giveness is not condoning or forg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ond forgiveness to justice  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AHM60015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744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Signs of Healing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er of triggers diminis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usive thoughts decr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olors%20of%20hope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Signs of Heal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use is no longer the “frame of reference” for relationsh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duced need to talk about ab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colors%20of%20hope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81024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everity of Symptoms: Determinant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, frequency, severity of ab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hysical violence or thre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abuser to vict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given by chi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comfort in enviro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re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blue%20heart" descr=""/>
          <p:cNvPicPr/>
          <p:nvPr/>
        </p:nvPicPr>
        <p:blipFill>
          <a:blip r:embed="rId1"/>
          <a:stretch/>
        </p:blipFill>
        <p:spPr>
          <a:xfrm>
            <a:off x="7086600" y="3048120"/>
            <a:ext cx="1600200" cy="1422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Sexual Abuse—Statistic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in 2 females by age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in 5 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% pre-puber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of 10 rapes are adolescent 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0% of offenders are familiar to vict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ffenders/spouses are chemically 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blue%20heart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21004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Stolen Childhood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derstanding Sexual Ab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Lost%20Childhood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4718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Universal Issu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be I asked for i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only happened once, a few time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Faces%20of%20Anxiety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3276720" cy="1803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Universal Issu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n’t penetration; I shouldn’t complai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I’m making this up; I’m crazy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wrong, but I still care for him/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Faces%20of%20Anxiety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3809880" cy="209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Clusters of Symptom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at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al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icidal thoughts/attem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as, occluded memories, di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blue%20heart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21004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Communities of Hea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orting families and communities of welcome and safe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CHM00025" descr=""/>
          <p:cNvPicPr/>
          <p:nvPr/>
        </p:nvPicPr>
        <p:blipFill>
          <a:blip r:embed="rId1"/>
          <a:stretch/>
        </p:blipFill>
        <p:spPr>
          <a:xfrm>
            <a:off x="1360440" y="194616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Toward A Pastoral Respon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ware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Holding%20the%20world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3809880" cy="381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Various Term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anger ab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xual ass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ild mol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doph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xual malpractice (adul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black%20heart" descr=""/>
          <p:cNvPicPr/>
          <p:nvPr/>
        </p:nvPicPr>
        <p:blipFill>
          <a:blip r:embed="rId1"/>
          <a:stretch/>
        </p:blipFill>
        <p:spPr>
          <a:xfrm>
            <a:off x="5729400" y="2590920"/>
            <a:ext cx="26064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Abuse—Important Distin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o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Any sexual contact/behavior between an adult and a min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ul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Any sexual contact/behavior with an adult who i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aware (sexual malpracti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-consenting (sexual assa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black%20heart" descr=""/>
          <p:cNvPicPr/>
          <p:nvPr/>
        </p:nvPicPr>
        <p:blipFill>
          <a:blip r:embed="rId1"/>
          <a:stretch/>
        </p:blipFill>
        <p:spPr>
          <a:xfrm>
            <a:off x="7391520" y="426708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Sexual Abuse—Dimension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hys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nappropriate tou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egrading, shaming, or evocative com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isu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exposing body parts, inappropriate nudity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ychological/spiritu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arious forms of harassment or misuse of po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black%20heart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Abuse by a Stranger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hock &amp; i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ediate afterm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ing able to tell the st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ting immediate support &amp; prot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Gazing%20eye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809880" cy="246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Abuse by a Trusted Oth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usion &amp; ambival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rayal of tr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recy and f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bility to tell someone or get prot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blue%20heart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20968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Effects on Adult Survivo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am ambival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—Di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oused—Unfe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racted—Repul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d—Det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sted—Suspi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d—Sha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—Guar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Sad%20eyes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886200" cy="279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An Aftermath of Confu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y Interpreting Emotional C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me Based Self-Id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 Compul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sociation (‘leaving myself’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izing Behavior/Inten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chotomizing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blue%20heart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221004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21:20:20Z</dcterms:created>
  <dc:creator>John Lewis Heagle</dc:creator>
  <dc:description/>
  <dc:language>en-US</dc:language>
  <cp:lastModifiedBy> </cp:lastModifiedBy>
  <dcterms:modified xsi:type="dcterms:W3CDTF">2005-06-16T19:21:02Z</dcterms:modified>
  <cp:revision>14</cp:revision>
  <dc:subject/>
  <dc:title>Sexual Abuse</dc:title>
</cp:coreProperties>
</file>