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8.wmf" ContentType="image/x-wmf"/>
  <Override PartName="/ppt/media/image13.wmf" ContentType="image/x-wmf"/>
  <Override PartName="/ppt/media/image10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E02B-8944-40C1-AFFA-8C9267ACA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2EEB-54CE-42FE-BD98-FE8E15DA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420A-9923-4017-921D-4D537E4E6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EA53-2C49-4207-9B47-E1B3E24EE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99110-CAA6-4F20-82CC-6503BD195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8B4A-C40D-4CF7-A89B-45342667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93B34-21B2-437B-BC30-D8A45F9A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D31AA-9C46-40B2-A6BF-EB34BA40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F6793-01C7-4622-BAB5-5D00FCBC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5AEE-9A98-456D-85EF-116D953B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6872-3C67-4EF4-B0B6-681548D7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644C-0473-4750-A11F-5C5C97FF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E029-42DB-438F-B487-E97A3157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C51E-1D4B-488F-83A7-962D94CF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BF44-EAD6-43DD-9E95-E1018D55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AF71-1D58-489D-8F6E-43BDEA1A3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811B-3A67-4D41-99CE-EF653A93F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99A7-D283-4E2B-9DC1-E34ADC65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8A54-9C10-4856-BB18-2681365A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8FA4-3D8D-4BB7-ABDE-46D64040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4525-08D0-4091-BF3C-6247054E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8461-999D-4C9B-867D-8F51FB04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577C-39B2-4136-B300-B102E695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9298-15F7-45DB-AFE0-AEF21F2C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793B-1AA2-47B4-8E4F-61CB2E12C2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6986-8743-4808-8C92-8560893AC8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A Sacred Trust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fessional and Ministerial Ethic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Illusion of Powerlessn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temptation to over-idealize our role as servant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Heart%20in%20hands" descr=""/>
          <p:cNvPicPr/>
          <p:nvPr/>
        </p:nvPicPr>
        <p:blipFill>
          <a:blip r:embed="rId1"/>
          <a:stretch/>
        </p:blipFill>
        <p:spPr>
          <a:xfrm>
            <a:off x="4724280" y="1752480"/>
            <a:ext cx="3200400" cy="2868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llusion vs. Rea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llusion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 don’t feel powerful…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llusion vs. Rea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llusion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 don’t feel powerful…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ality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y title/role has public statu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y behavior puts pressure on other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ources of Pow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sition, Status, Role (authority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itle: Reverend, Pastor, Doctor, Sister, Chairperson, President, et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g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nd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ac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warrior%20heads" descr=""/>
          <p:cNvPicPr/>
          <p:nvPr/>
        </p:nvPicPr>
        <p:blipFill>
          <a:blip r:embed="rId1"/>
          <a:stretch/>
        </p:blipFill>
        <p:spPr>
          <a:xfrm>
            <a:off x="4191120" y="3429000"/>
            <a:ext cx="2120760" cy="2413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ources of Pow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hysical, Psychological Strengt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ducation, Information, Expertis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perienc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nancial Resources, Possession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ersonality (charm, persuasiveness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xual Orientati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warrior%20heads" descr=""/>
          <p:cNvPicPr/>
          <p:nvPr/>
        </p:nvPicPr>
        <p:blipFill>
          <a:blip r:embed="rId1"/>
          <a:stretch/>
        </p:blipFill>
        <p:spPr>
          <a:xfrm>
            <a:off x="7402680" y="1143000"/>
            <a:ext cx="1741320" cy="1981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ower Abu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y time I use my resources and advantages to harm others, or benefit myself at their expens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hat are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‘Boundaries’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sanctity of the self within a relationship…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Face%20to%20face" descr=""/>
          <p:cNvPicPr/>
          <p:nvPr/>
        </p:nvPicPr>
        <p:blipFill>
          <a:blip r:embed="rId1"/>
          <a:stretch/>
        </p:blipFill>
        <p:spPr>
          <a:xfrm>
            <a:off x="5073480" y="1641600"/>
            <a:ext cx="2957760" cy="4454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n Important Differe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reaking A Vow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example violating a marital commitment or religious vow of celibac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lpractic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using fiduciary power by violating professional or ministerial bound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timacy Nee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imary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mmediate family, spouse, or partn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osest circle of frien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Hands%20in%20unity" descr=""/>
          <p:cNvPicPr/>
          <p:nvPr/>
        </p:nvPicPr>
        <p:blipFill>
          <a:blip r:embed="rId1"/>
          <a:stretch/>
        </p:blipFill>
        <p:spPr>
          <a:xfrm>
            <a:off x="4724280" y="1676520"/>
            <a:ext cx="3810240" cy="3281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timacy Nee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condary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-workers and colleagu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aith communities and those serve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Hands%20in%20unity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3809880" cy="3281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Sexuality and Justice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Neglected Perspectiv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Diverse%20community" descr=""/>
          <p:cNvPicPr/>
          <p:nvPr/>
        </p:nvPicPr>
        <p:blipFill>
          <a:blip r:embed="rId1"/>
          <a:stretch/>
        </p:blipFill>
        <p:spPr>
          <a:xfrm>
            <a:off x="4191120" y="1447920"/>
            <a:ext cx="3225600" cy="4038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venting Boundary Viol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velop good self-knowledg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intain healthy friendship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al with disappointments, anger, lonelines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Washing%20feet" descr=""/>
          <p:cNvPicPr/>
          <p:nvPr/>
        </p:nvPicPr>
        <p:blipFill>
          <a:blip r:embed="rId1"/>
          <a:stretch/>
        </p:blipFill>
        <p:spPr>
          <a:xfrm>
            <a:off x="5064120" y="1701720"/>
            <a:ext cx="3059280" cy="3479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venting Boundary Viol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ppropriate time and setting for appointment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ek supervisi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intain balance in work/play/pray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Washing%20feet" descr=""/>
          <p:cNvPicPr/>
          <p:nvPr/>
        </p:nvPicPr>
        <p:blipFill>
          <a:blip r:embed="rId1"/>
          <a:stretch/>
        </p:blipFill>
        <p:spPr>
          <a:xfrm>
            <a:off x="5257800" y="1828800"/>
            <a:ext cx="2859120" cy="3252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ual Relationship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re than one role with same pers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some professions these are unethica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r example, physicians, psychologists, psychotherapist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shared%20struggle" descr=""/>
          <p:cNvPicPr/>
          <p:nvPr/>
        </p:nvPicPr>
        <p:blipFill>
          <a:blip r:embed="rId1"/>
          <a:stretch/>
        </p:blipFill>
        <p:spPr>
          <a:xfrm>
            <a:off x="6934320" y="0"/>
            <a:ext cx="1828800" cy="1768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ual Relationships &amp; Minist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ministerial settings, dual relationships 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evita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metimes necessa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re responsibility on the minist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keep healthy boundar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intain responsible relationshi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shared%20struggle" descr=""/>
          <p:cNvPicPr/>
          <p:nvPr/>
        </p:nvPicPr>
        <p:blipFill>
          <a:blip r:embed="rId1"/>
          <a:stretch/>
        </p:blipFill>
        <p:spPr>
          <a:xfrm>
            <a:off x="5181480" y="2209680"/>
            <a:ext cx="1219320" cy="1179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Central Ques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my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ol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of service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ith this perso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 this tim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nder these circumstance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bd00028_" descr=""/>
          <p:cNvPicPr/>
          <p:nvPr/>
        </p:nvPicPr>
        <p:blipFill>
          <a:blip r:embed="rId1"/>
          <a:stretch/>
        </p:blipFill>
        <p:spPr>
          <a:xfrm>
            <a:off x="6400800" y="1981080"/>
            <a:ext cx="2362320" cy="2257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Central Ques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s th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focu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this about helping this perso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 is it about meeting my need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bd00028_" descr=""/>
          <p:cNvPicPr/>
          <p:nvPr/>
        </p:nvPicPr>
        <p:blipFill>
          <a:blip r:embed="rId1"/>
          <a:stretch/>
        </p:blipFill>
        <p:spPr>
          <a:xfrm>
            <a:off x="6172200" y="3733920"/>
            <a:ext cx="2362320" cy="2257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lationship Continu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fessional-------Friendship--------Lo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xim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fessional Effectiven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____________________________________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xim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utual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timac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2362320"/>
            <a:ext cx="7315200" cy="32004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37339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315200" y="37339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19720" y="2133720"/>
            <a:ext cx="380880" cy="4114800"/>
          </a:xfrm>
          <a:prstGeom prst="downArrow">
            <a:avLst>
              <a:gd name="adj1" fmla="val 50000"/>
              <a:gd name="adj2" fmla="val 270085"/>
            </a:avLst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Transference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nconscious Feelings/Nee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tachm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positive or negativ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ransferen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00400" y="2286000"/>
            <a:ext cx="152280" cy="533520"/>
          </a:xfrm>
          <a:prstGeom prst="upDownArrow">
            <a:avLst>
              <a:gd name="adj1" fmla="val 50000"/>
              <a:gd name="adj2" fmla="val 69746"/>
            </a:avLst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38680" y="2209680"/>
            <a:ext cx="1752840" cy="762120"/>
          </a:xfrm>
          <a:prstGeom prst="rightArrow">
            <a:avLst>
              <a:gd name="adj1" fmla="val 50000"/>
              <a:gd name="adj2" fmla="val 57499"/>
            </a:avLst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81680" y="3200400"/>
            <a:ext cx="838440" cy="1905120"/>
          </a:xfrm>
          <a:prstGeom prst="downArrow">
            <a:avLst>
              <a:gd name="adj1" fmla="val 50000"/>
              <a:gd name="adj2" fmla="val 56805"/>
            </a:avLst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43400" y="4495680"/>
            <a:ext cx="2119320" cy="762120"/>
          </a:xfrm>
          <a:prstGeom prst="leftArrow">
            <a:avLst>
              <a:gd name="adj1" fmla="val 50000"/>
              <a:gd name="adj2" fmla="val 69521"/>
            </a:avLst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Keeping Responsible Relationship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integrity of the ministerial relationshi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Human%20faces" descr=""/>
          <p:cNvPicPr/>
          <p:nvPr/>
        </p:nvPicPr>
        <p:blipFill>
          <a:blip r:embed="rId1"/>
          <a:stretch/>
        </p:blipFill>
        <p:spPr>
          <a:xfrm>
            <a:off x="4343400" y="1828800"/>
            <a:ext cx="2922480" cy="4454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storing Right Relationship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Work of Justic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Caring%20Women" descr=""/>
          <p:cNvPicPr/>
          <p:nvPr/>
        </p:nvPicPr>
        <p:blipFill>
          <a:blip r:embed="rId1"/>
          <a:stretch/>
        </p:blipFill>
        <p:spPr>
          <a:xfrm>
            <a:off x="1154160" y="1641600"/>
            <a:ext cx="2873160" cy="4454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Sex &amp; Power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text for Relational Abus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Faces%20Looking%20In" descr=""/>
          <p:cNvPicPr/>
          <p:nvPr/>
        </p:nvPicPr>
        <p:blipFill>
          <a:blip r:embed="rId1"/>
          <a:stretch/>
        </p:blipFill>
        <p:spPr>
          <a:xfrm>
            <a:off x="4038480" y="1828800"/>
            <a:ext cx="449604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exual Sin: Violation of Pers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ving from a private morality to a communal ethic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big%20purple%20explosion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4038480" cy="3951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Prophetic Vision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brew Hospitality Cod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blue%20mt%20design" descr=""/>
          <p:cNvPicPr/>
          <p:nvPr/>
        </p:nvPicPr>
        <p:blipFill>
          <a:blip r:embed="rId1"/>
          <a:stretch/>
        </p:blipFill>
        <p:spPr>
          <a:xfrm>
            <a:off x="3733920" y="1371600"/>
            <a:ext cx="4267080" cy="3309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ebrew Hospitality C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ou shall not molest the widow, the orphan, or the alie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cause when you were aliens, I was your </a:t>
            </a:r>
            <a:r>
              <a:rPr b="0" i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Go’el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(‘next of kin,’ or protector)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Gospel Vision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ohn 10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good shepherd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cross%20symbol" descr=""/>
          <p:cNvPicPr/>
          <p:nvPr/>
        </p:nvPicPr>
        <p:blipFill>
          <a:blip r:embed="rId1"/>
          <a:stretch/>
        </p:blipFill>
        <p:spPr>
          <a:xfrm>
            <a:off x="3809880" y="1676520"/>
            <a:ext cx="3810240" cy="3186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Model Minister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yone who goes and comes in through me, will find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saf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pasture…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hn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cross%20symbol" descr=""/>
          <p:cNvPicPr/>
          <p:nvPr/>
        </p:nvPicPr>
        <p:blipFill>
          <a:blip r:embed="rId1"/>
          <a:stretch/>
        </p:blipFill>
        <p:spPr>
          <a:xfrm>
            <a:off x="4267080" y="1523880"/>
            <a:ext cx="3810240" cy="3186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3T21:05:23Z</dcterms:created>
  <dc:creator>John Lewis Heagle</dc:creator>
  <dc:description/>
  <dc:language>en-US</dc:language>
  <cp:lastModifiedBy> </cp:lastModifiedBy>
  <dcterms:modified xsi:type="dcterms:W3CDTF">2005-06-16T22:02:57Z</dcterms:modified>
  <cp:revision>12</cp:revision>
  <dc:subject/>
  <dc:title>A Sacred Trust</dc:title>
</cp:coreProperties>
</file>